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700A-8CFF-4A9A-8C35-00E39E387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AACE-C863-4EF0-9EE4-BD55B56659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30F8-C57F-4032-B964-DB8D003937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2EF8-2E69-4B02-9636-4101B2752C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03D9-0162-4155-97F1-B81B4392EF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957F-2E56-4F48-B2A0-B6E3846956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1843-CD9F-4461-BB95-AE692E5ED4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97DD-EAC4-4C35-BEED-6C99E9B4B0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83A7-1DD7-4967-85D1-840EB8A3F4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867E-47D0-4841-A94F-F17EC077FE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F08A-526A-4EB0-8731-B9E94FF074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6ACF-C175-4ABE-A820-9CC7E87515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F002-CCF2-48C4-908C-C0CBF158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FE5D-0EB0-4DA8-8D71-B257DD84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9A95-0DCB-498D-86B1-756F21BD0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9B86-AE78-4809-AFAF-89BC309F9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81B1-0D2D-48F3-8AA5-2ED726E86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4A45-B977-4312-A7DA-79EBBB27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72F5-F806-4A4C-AE39-3667E3F1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E682-81C6-4723-BF05-90376616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92E7-1463-449F-9DC3-779175E6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30B1-092A-4F49-8A30-06F8CB79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757A-3EC3-4D9D-BA01-FEB3B783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D9BB-DB5A-42A8-8151-5104C9AD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48DA-25E4-46F1-B778-9DABCAF6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205B-BF33-4D0E-B95B-4D81EB50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54E9-8BA1-42CD-B885-15EAF59D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B856-9F34-4A9F-9E79-A10D58ADC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92DB-8863-4055-9015-81D2B78F1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E8C3-5E62-4179-9187-47108A95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3BA6-18BB-4433-BB21-CF2FBA95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606D-5CE6-4EB9-ACBA-9CEA5A17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4B4D-F166-41D3-B6C9-0D346222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CA11-FD92-4E8D-BFD1-B2735A71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A81F-4FA4-4C40-B7E1-CF65F9AA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FF4A-44F3-41C5-9D96-5AA2D69B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1ECE-96DB-4931-B5FB-F78AF2C78C1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4"/>
            <p:cNvSpPr/>
            <p:nvPr/>
          </p:nvSpPr>
          <p:spPr>
            <a:xfrm>
              <a:off x="2590920" y="-7920"/>
              <a:ext cx="2757240" cy="68785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0" y="-11160"/>
              <a:ext cx="2757600" cy="68724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5943600" y="-6480"/>
              <a:ext cx="2760840" cy="68738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3048120" y="-14400"/>
              <a:ext cx="3301920" cy="6864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AC2A-C534-45F2-B246-5FAB871DBD5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caciasl.com/simscript.cfm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Modeling and Simulation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T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How are simulation program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hey can be made with standard programming langages (C++, Java, Delphi, Fortran,et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here are special programs that build simulators (</a:t>
            </a:r>
            <a:r>
              <a:rPr b="0" lang="es-MX" sz="3200" spc="-1" strike="noStrike" u="sng">
                <a:solidFill>
                  <a:srgbClr val="f98d43"/>
                </a:solidFill>
                <a:uFillTx/>
                <a:latin typeface="Arial"/>
                <a:hlinkClick r:id="rId3"/>
              </a:rPr>
              <a:t>SIMSCRIPT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, DYNAM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preadshe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Typical us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Flight simul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cological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Financial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tructural engine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tc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Modeling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description of an event, behaviour or condition in the real world. Models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elp in understanding complex system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y are useful only to the extent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at they explain the real conditions they describ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dels are used to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velop simulation progra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 model is not just a substitute of the real phenomenom, it is also its simplif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Known model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Mathematical models (c=d*p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hysical models (E=mc</a:t>
            </a:r>
            <a:r>
              <a:rPr b="0" lang="es-MX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rchitectural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omputer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Mechanical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conomic &amp; social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Biological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hemical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Modeling Syste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 model studies a syste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We understand as a modeling system the portion of space we are interested to stud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In an architectonical model the system could be the actual bui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In a pysical model the system could be the movement of a partic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In a computer model the system could be anything 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Why do we need model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he system could not exist yet (a build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ealing with the actual system could be expensive (economic mode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ealing with the actual system could be inapropiate or catastrphic (medical research, nuclear prob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Simul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system that </a:t>
            </a:r>
            <a:r>
              <a:rPr b="0" lang="en-GB" sz="3200" spc="-1" strike="noStrike">
                <a:solidFill>
                  <a:srgbClr val="9ce157"/>
                </a:solidFill>
                <a:latin typeface="Times New Roman"/>
              </a:rPr>
              <a:t>emulat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by computer abstract mechanical or natural </a:t>
            </a:r>
            <a:r>
              <a:rPr b="0" lang="en-GB" sz="3200" spc="-1" strike="noStrike">
                <a:solidFill>
                  <a:srgbClr val="9ce157"/>
                </a:solidFill>
                <a:latin typeface="Times New Roman"/>
              </a:rPr>
              <a:t>syste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d then </a:t>
            </a:r>
            <a:r>
              <a:rPr b="0" lang="en-GB" sz="3200" spc="-1" strike="noStrike">
                <a:solidFill>
                  <a:srgbClr val="9ce157"/>
                </a:solidFill>
                <a:latin typeface="Times New Roman"/>
              </a:rPr>
              <a:t>outputs the predicted result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f real-world conditions. Models that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scribe these conditions are used to develop simulation progra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Advantages of simul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llows us to study and understand complex phenomena and make predi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llows us to work an a non-existinng project (usally to evaluate it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aves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aves mo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isks are avoi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The time of study of the project may be independent of the real time it tak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tudy of extreemly fast nuclear re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tudy of the evolution of a plant (could take more than 400 years!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Disadvantages of simul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When models are wro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ome predictions may be inaccurate and may cause catastorph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The study of the real problem is the nature of re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When simulation programs are wrong anything could happen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The simplification of the model could exagerated and important aspects may not be predicted/conside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The simultaion proces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electing a problem/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reating a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reating a simulation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Validating the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esigning Experi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xecute the experiments on the simultation progr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nalysing the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9T20:03:09Z</dcterms:created>
  <dc:creator>Maximo Gurmendez</dc:creator>
  <dc:description/>
  <dc:language>en-US</dc:language>
  <cp:lastModifiedBy>pienaark</cp:lastModifiedBy>
  <dcterms:modified xsi:type="dcterms:W3CDTF">2008-10-11T04:45:20Z</dcterms:modified>
  <cp:revision>7</cp:revision>
  <dc:subject/>
  <dc:title>Modeling and Simulations</dc:title>
</cp:coreProperties>
</file>